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ADA-1256-4FCE-9FA4-CC549D73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252-B956-42B9-8686-2F605BF8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9F2-7B51-44F0-9E92-7A5FBDAF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DE4-611C-44B1-8E17-3ED2FFF0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62FA-A344-4258-86F1-4E372EE4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AB3-1A2F-40E9-ABD8-FDA8758F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80F-2AB2-40B0-95E9-1E62FD46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208-3A9E-49C6-AC7D-1F49B3DC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E36-2160-4F25-A06B-B4E870F2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3196-8438-4EC1-BB41-6A9B7410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0F2-5049-4E7E-A231-5B7E23F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C2D-8328-49AC-A349-7CAF1715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9E93-51F4-4057-9879-89764477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B0C8-BFD2-4F03-803E-DFBA3AC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D44-AAB4-4DB4-92E8-B94CFDCC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3E3-1327-4B4E-A00F-A16D378D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8E6D-ADB3-4EF7-AE8D-BB89C049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82E7-7D5A-4DA8-99BD-FD5B6995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8C50-37E0-44B6-BE95-B01D8EF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91D3-8AF8-44AC-B100-4E7546B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6318A-E730-4FDA-B35A-ACF11621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0101-20D6-4D19-B7C0-566CE288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938-1E84-4A28-8324-65D1CB3E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0CCF-6EDD-4656-A0F9-077CD83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9FC5-D1FF-45B7-9949-290F662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26C9-2558-48AC-9051-0D47C04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E532-2257-48BF-9862-FC06A6A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B82C-A724-4D14-B432-04DA7DF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F7D4-C031-44C5-9E69-0D188D6A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8F30-6F82-4A9D-B052-FA5C91F9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9D1F-B077-4629-AB2D-03DA19A8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7482-BB3B-4596-94F2-D243E0A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199E-9F47-4C77-BFA0-CE143AD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806-314B-4E98-B3A4-E3000FE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E19A-475D-4E88-8E17-6B3B22C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C48F-22E8-4FA4-9AAC-2841EE8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D014-36DF-438A-8A62-2AF38F6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F6C5-149A-4286-ABD9-7B65F7CB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A3CD-3394-4EC5-BFCF-01CD6FBC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989B-280C-420D-B37B-B7072C3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A122-4FB6-48E3-8665-D73AE16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BED7-ADDA-415D-8A3F-9901F75E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ED8B-2CCB-4582-B216-E5A6CBEE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ABA3-EBCC-4920-89EB-060F931B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8A7-CD27-4761-A0E0-5B94716D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9738-7A6B-415F-9B03-D037A25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CB407-CA2F-40A3-B2F7-91846C1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3CD3-B451-4E6B-92FD-3C7852E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72A4-998F-48D0-961A-2CBC06E2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0854-703C-4141-8CAF-A2342D0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010D-9D1A-414B-83C4-6242544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D7CE-F488-4285-AC46-A7AB4DD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A308-5DC1-4548-B61F-2390FB00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6C40-7C1D-44C8-90EE-F6E01602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DA9D-C2FC-41FB-A8AB-EB9B36C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384-D030-4E95-BE7A-387390F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36E61-EE88-4EC2-9DB3-67431B52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57DD-8577-4E06-8252-524B4785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EDAC-C94A-4A2F-B68A-0B8B34B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B033-E3D7-4875-8FB4-089A7543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FF4F-154A-4A8D-9E05-D869E6A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38D92-DCFC-4433-ACA5-FFBC0E13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4A41-C132-4344-81F3-CACCE04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BF77-7AA0-4523-AC34-5207462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357D-CAC1-43D7-A63C-C0B4E63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DB9C-3595-4DF0-A3A5-6A02CCF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877-A19B-4553-A2F6-D78C792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6CC0-9004-4736-819F-34D41B7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9E9D-B1EF-4AD9-9734-A98DF705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2FEC-C8AC-4A5F-B2FE-8B04FD53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EA9-B9FE-40B0-B8B0-054EDB2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A20-217D-4C21-BB7F-A82D85D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753-3E1E-4BDE-857A-13C784DD89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1422-81AC-44DC-A790-803AA7D10D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AA8C-2EC8-43D2-9987-42A73F8561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37C0-EBF4-4629-AD87-2C54297B8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EFF2-5A10-4B07-B2A0-01BB2B7892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AF8-91D4-47B7-ABD7-9372E85ADF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Основные стадии технологии переработки нефти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Гидрокрекин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 видов крекинга, переработка высококипящих нефтяных фракций, мазута или гудрона для получения бензина, дизельного и реактивного топлив, смазочных масел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 действием водорода при 330—450°С и давлении 5-30 МПа в присутствии катализ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оксова́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переработки жидкого и твёрдого топлива нагреванием без доступа возд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зложении топлива образуются твёрдый продукт — кокс и летучи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Изомериз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 получения углеводородов изостроения (изопентан, изогексан) из углеводородов нормального стро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ю процесса является получение сырья для нефтехимического производства(изопрен из изопентана) и высокооктановых компонентов автомобильных бензи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Алкилир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алкила в молекулу органического соеди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килирующими агентами обычно являются алкилгалогениды, алкены, эпоксисоединения, спирты, реже альдегиды, кетоны, эфиры, сульфиды, диазоалк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ель переработки нефти (нефтепереработки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о нефтепродуктов, прежде всего, различных топлив (автомобильных, авиационных, котельных и т. д.) и сырья для последующей химической перераб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рвичные процес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637000"/>
            <a:ext cx="648180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готовка неф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тмосферная перего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акуумная дистилля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Подготовка неф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поступает на НПЗ в подготовленном для транспортировки ви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заводе она подвергается дополнительной очистке от механических примесей, удалению растворённых лёгких углеводородов (С1-С4) и обезвоживанию на электрообессоливающих установках (ЭЛО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Атмосферная перего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ть поступает в ректификационные колонны на атмосферную перегонку (перегонку при атмосферном давлении), где разделяется на несколько фракций: легкую и тяжёлую бензиновые фракции, керосиновую фракцию, дизельную фракцию и остаток атмосферной перегонки —мазу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получаемых фракций не соответствует требованиям, предъявляемым к товарным нефтепродуктам, поэтому фракции подвергают дальнейшей (вторичной) перерабо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Вакуумная дистилля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с отгонки из мазута (остатка атмосферной перегонки) фракций, пригодных для переработки в моторные топлива, масла, парафины и церезины и другую продукцию нефтепереработки и нефтехимического синтеза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ющийся после этого тяжелый остаток называется гудроном. Может служить сырьем для получения биту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торич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иформи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талитический креки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идрокрекин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кс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аление се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омериз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лкилир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тракция аромат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Каталитический риформин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талитический риформинг (от англ. to reform — переделывать, улучшать) — каталитическая ароматизация (повышение содержания аренов в результате прохождения реакций образования ароматических углеводородов), относящаяся наряду с каталитической изомеризацией лёгких алканов к гидрокаталитическим процессам реформирования нефтяного сыр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талитическому риформингу подвергают прямогонные тяжелые бензины с пределами выкипания 80—180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Каталитический крекинг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мокаталитическая переработка нефти и её фракций с целью получения бенз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ществляется при 450—550°C и 50-400 кПа в присутствии мелкодисперсного катализ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1:25:13Z</dcterms:created>
  <dc:creator>User</dc:creator>
  <dc:description/>
  <dc:language>en-US</dc:language>
  <cp:lastModifiedBy>User</cp:lastModifiedBy>
  <dcterms:modified xsi:type="dcterms:W3CDTF">2010-02-16T11:49:01Z</dcterms:modified>
  <cp:revision>2</cp:revision>
  <dc:subject/>
  <dc:title>Основные стадии технологии переработки нефти </dc:title>
</cp:coreProperties>
</file>